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AB3-EF95-448B-AC5E-0D81B678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44B-37BD-49E7-8A7E-E238AF49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7F2-A665-411C-B7F1-27B6E60C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10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92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52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10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92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443-841A-4D53-BD64-083DB80E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FB-E656-46EE-B10C-72EFB746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38E-C855-4E4B-81A0-C9EF7F7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970-2551-4BC5-A8E8-7EE9704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DAF-04BB-4BC1-BD5F-FE53177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0760" y="2743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9A2-4CF6-4C1B-90A8-F00C930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244-E447-45C4-9ED0-C32B832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3D1-2CF7-4A5E-8D79-08E224C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030-594B-4137-9C68-6F23F34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004-0990-4C91-B56C-14A2EDD52E7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6040" y="152280"/>
            <a:ext cx="8815680" cy="88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52280"/>
            <a:ext cx="995400" cy="882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7872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smarena.com/sagem_vs1-pictures-1181.php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010640" cy="12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Jerry Introdu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- for Beijing Workshop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Kheng-Wah K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ategory Management, Beij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3 Feb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chedule communicated to Vodafo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’s requires BenQ to regularly update them on Jerry project status and align with their project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ates communicated to Vodafone curr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freeze (“S0”): 28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1+ samples: 9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leted sw and hw (“S25”): 22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ceptance Testing Start: 3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guide and packaging finalized: 21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ical Acceptance reached: 22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rst shipment out of factory: 28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livery Star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 Sep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60385" t="0" r="0" b="0"/>
          <a:stretch/>
        </p:blipFill>
        <p:spPr>
          <a:xfrm>
            <a:off x="7726320" y="4022640"/>
            <a:ext cx="1152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is part of a “package deal” agreement with Vodafone that includes 2 other BenQ 3G products. This project is therefor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trategic impor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has requested delivery starts (DS) for Jerry in September 2006, to be in-time for their year-end 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0765" r="27355" b="22176"/>
          <a:stretch/>
        </p:blipFill>
        <p:spPr>
          <a:xfrm>
            <a:off x="914400" y="5121360"/>
            <a:ext cx="331308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21320" y="5075280"/>
            <a:ext cx="315432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520" y="2696760"/>
            <a:ext cx="87789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offers simple, easy-to-use mobile phones and clear tariffs targeting at the middle-aged and older-aged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760" y="19209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14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Jerry is designed exclusively for </a:t>
            </a:r>
            <a:r>
              <a:rPr b="0" lang="en-US" sz="2400" spc="-1" strike="noStrike">
                <a:solidFill>
                  <a:srgbClr val="fe2716"/>
                </a:solidFill>
                <a:latin typeface="Arial"/>
                <a:ea typeface="文鼎中黑"/>
              </a:rPr>
              <a:t>Vodafone Sim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0022" r="0" b="0"/>
          <a:stretch/>
        </p:blipFill>
        <p:spPr>
          <a:xfrm>
            <a:off x="960480" y="4114800"/>
            <a:ext cx="25606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6441" r="0" b="30110"/>
          <a:stretch/>
        </p:blipFill>
        <p:spPr>
          <a:xfrm>
            <a:off x="6035760" y="3978360"/>
            <a:ext cx="19256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1646280"/>
            <a:ext cx="87789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mobile phones are designed for users who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 easy-to-use phone only for voice calls and tex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keep in touch easily with your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d uncomplicated phone with built-in helpful ti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obile phones intuitively designed to provide only the functions users really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3162240" cy="54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8429" r="0" b="0"/>
          <a:stretch/>
        </p:blipFill>
        <p:spPr>
          <a:xfrm>
            <a:off x="3840120" y="4114800"/>
            <a:ext cx="168120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14038" r="0" b="0"/>
          <a:stretch/>
        </p:blipFill>
        <p:spPr>
          <a:xfrm>
            <a:off x="6354720" y="4160880"/>
            <a:ext cx="1478160" cy="191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20076" r="0" b="0"/>
          <a:stretch/>
        </p:blipFill>
        <p:spPr>
          <a:xfrm>
            <a:off x="549360" y="4160880"/>
            <a:ext cx="2052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Simply phones are to be designed and realized according to Vodafone specified require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1 : Sagem VS1 and V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3: BenQ Jerry (V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Vofafone Simply Sagem VS3"/>
          <p:cNvPicPr/>
          <p:nvPr/>
        </p:nvPicPr>
        <p:blipFill>
          <a:blip r:embed="rId1"/>
          <a:stretch/>
        </p:blipFill>
        <p:spPr>
          <a:xfrm>
            <a:off x="5303880" y="3108240"/>
            <a:ext cx="41580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agem VS1&#10;MORE PICTUR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92960" y="201132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agem VS2"/>
          <p:cNvPicPr/>
          <p:nvPr/>
        </p:nvPicPr>
        <p:blipFill>
          <a:blip r:embed="rId4"/>
          <a:stretch/>
        </p:blipFill>
        <p:spPr>
          <a:xfrm>
            <a:off x="7497720" y="196524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851440" y="4572000"/>
            <a:ext cx="49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2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120" y="1874880"/>
          <a:ext cx="5075280" cy="228276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22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Home Screen (lef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out of any menu and back to the home screen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ntacts (middle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the contacts menu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g (righ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you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lls / messages.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5760" y="1600200"/>
          <a:ext cx="2880720" cy="2149200"/>
        </p:xfrm>
        <a:graphic>
          <a:graphicData uri="http://schemas.openxmlformats.org/drawingml/2006/table">
            <a:tbl>
              <a:tblPr/>
              <a:tblGrid>
                <a:gridCol w="2880720"/>
              </a:tblGrid>
              <a:tr h="21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ck and Unlock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Did you ever get one of those mysterious phone calls that sound like they're coming from the inside of someone's pocket?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at's why we've made it easy to lock the Vodafone Simply mobile ph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0880" y="1189080"/>
            <a:ext cx="6699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1965240"/>
            <a:ext cx="965160" cy="2239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3280" y="3475080"/>
            <a:ext cx="9604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06960" y="4206960"/>
          <a:ext cx="4313160" cy="12348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Volume higher/lower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n’t hear the other party in noisy environment. We've made it easy to adjust the call volume with the volume adjustment side ke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92560" y="3840120"/>
            <a:ext cx="644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3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880" y="4689360"/>
            <a:ext cx="146196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971800" y="4525920"/>
          <a:ext cx="4313160" cy="10080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ower on/off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uld figure out how to power on/off the phone? We have make it easy to power on/off with a separate power button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57400" y="2468520"/>
          <a:ext cx="3017880" cy="1309680"/>
        </p:xfrm>
        <a:graphic>
          <a:graphicData uri="http://schemas.openxmlformats.org/drawingml/2006/table">
            <a:tbl>
              <a:tblPr/>
              <a:tblGrid>
                <a:gridCol w="3017880"/>
              </a:tblGrid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Ringer Setting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e Vodafone Simply mobile phone has four ringer settings which can be set using this switc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No mucking about in menus to find the right setting. So no excuses for letting your Vodafone Simply mobile phone ring in the middle of your cousin's wedd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58680" y="1873080"/>
            <a:ext cx="6400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User Interface"/>
          <p:cNvPicPr/>
          <p:nvPr/>
        </p:nvPicPr>
        <p:blipFill>
          <a:blip r:embed="rId1"/>
          <a:stretch/>
        </p:blipFill>
        <p:spPr>
          <a:xfrm>
            <a:off x="411120" y="105084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514600"/>
            <a:ext cx="1144800" cy="141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680" y="150804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Vodafone has defined its own set of “easy to use”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51460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5146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811760"/>
            <a:ext cx="3519360" cy="1574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760" y="4022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This include “re-packaging” the MMS interface to allow user to send “voice message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equirements are covered in the Steckbrief and Vodafone Simp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Product Definition (TP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Capabilities Definition (TC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Interface, style guide documen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2808" r="18607" b="0"/>
          <a:stretch/>
        </p:blipFill>
        <p:spPr>
          <a:xfrm>
            <a:off x="5394240" y="1371600"/>
            <a:ext cx="26510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dmin</cp:lastModifiedBy>
  <dcterms:modified xsi:type="dcterms:W3CDTF">2006-02-13T01:33:21Z</dcterms:modified>
  <cp:revision>64</cp:revision>
  <dc:subject/>
  <dc:title>PowerPoint 簡報</dc:title>
</cp:coreProperties>
</file>